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218-3CC7-4464-964A-E96E76F5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D0B-C30C-4617-9385-54FE9F2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456-AA51-4F31-8F2D-AFB32295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94B-35DC-4578-B9F2-2D4C58BA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AC0-8E4E-45BA-9DA3-5C822E53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BEF-CE26-412D-819F-D7ACB16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F69-DD3C-4888-98D7-021AAA8B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271-2B42-443A-BABE-C02150D2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8CF-9462-42B0-B007-9F65239B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D4F-FBA1-4221-8B33-88A9D51C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D48-B561-4AA0-8612-E66061C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686-234B-4268-BA2C-1E19FF1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8D2-F3BD-4CDF-8ACC-26539EB0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380880"/>
            <a:ext cx="6477120" cy="556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257800"/>
            <a:ext cx="5867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edthis Portable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49600" y="60199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edthis App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58672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Web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60020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241920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23856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i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405756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i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4876560" y="2743200"/>
            <a:ext cx="50004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s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27432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4876560" y="533160"/>
            <a:ext cx="50004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571500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36264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701028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9:26:53Z</dcterms:created>
  <dc:creator>Michael O'Brien</dc:creator>
  <dc:description/>
  <dc:language>en-US</dc:language>
  <cp:lastModifiedBy>Michael O'Brien</cp:lastModifiedBy>
  <dcterms:modified xsi:type="dcterms:W3CDTF">2003-12-31T19:44:33Z</dcterms:modified>
  <cp:revision>2</cp:revision>
  <dc:subject/>
  <dc:title>Slide 1</dc:title>
</cp:coreProperties>
</file>