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2F48-3DF7-44DA-949B-43BEF793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D57D-AC61-4E37-9016-AF7FAD92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5933-5CFF-47BB-B40D-9283B818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731F-0EDD-4E11-B5E0-7E0AC517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01FD-07F4-4123-8AE9-26693E71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79D6-F91F-41DF-8167-258A4D04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DA78-8098-4438-8BAA-9BB9A032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4EA3-4844-4D22-B0A5-12612883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C49F-1383-49C8-9795-335CEB76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502B-5A7A-42F2-8229-4F9D73B3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9F9A-0F51-414A-8BA2-2C377720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EFE9-9E0A-4AAB-940C-258CA77D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AC38-EF6D-411E-832E-20A56C14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FEF3-FCFC-4A05-B29C-44289F1D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43E7-F16E-42E4-ADC2-FA3A6CB0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CA0C-1F9B-4797-9B38-0790858B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8C8C-BD7E-406C-9EBC-14637165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1FE6-772E-49E3-B032-C9418CA8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66F7-CC83-44CC-B507-D14E6FDA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91D6-B1D1-4E3D-A115-51EB2365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34E7-33B6-482D-9368-A44B2610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AD6B-AE72-4A06-B1D4-6E354D48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BCFB-77E3-428A-BF3B-AEFFA110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D43-E9B0-4038-B10B-0537F125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B94E-A3A2-4104-B837-5DA45BA63512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4C73-107B-4F81-A8C4-514BA01F3E5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88520"/>
            <a:ext cx="62481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orting IPN2220AP on Embedded Syste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W Engineer:Yeh, Chih Ha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Embedded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nprocomm, Inc, Tai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AP operating mo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mode(defaul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N2220 driver handles station-to-station traf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mode with no relay between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N2220 driver stops forwarding packet between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p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N2220 driver indicates all station’s data frame upward and does not forward packets between WLAN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6176-E242-42D6-ABCC-720EEC3FFF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WP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N2220 Drivers prov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key management and (de)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IP MIC calculation and failure no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X port on/off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PA Capability announcement in bea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vendor han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X Frame exchange(certification and 4-way handsha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PA-PSK pass phrase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on WPA capability pa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A44D-A62A-4DC2-B96B-7C2D4FA290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/O Control on IPN2220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ll these function can be commanded through param_xx_xx and cmd_xx_xx functions listed in wlan_lib.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clu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asic AP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W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Key and WPA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tatistics and network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D820-3FBA-48B7-BF01-16782E81E0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onclus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procomm accumulates knowledge on porting IPN2220 driver to different OS and network protocol s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procomm provides a clear-cut inte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procomm can help System Vendor speed up porting IPN2220 d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B35C-6B8A-41C0-981D-E26460A7F2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175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3300"/>
                </a:solidFill>
                <a:latin typeface="Arial Black"/>
              </a:rPr>
              <a:t>Inprocomm, System Vendor’s Porting Effor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nprocom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rovides IPN2220.o, which contains object code compiled from OS-independent source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onsultation on porting, performance tu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ystem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Register ISR, network interface with respective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alling API provided by IPN2220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rovides K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rovides 802.1X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DF44-CE01-4EFA-8358-AEDEFBBC56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orting Work Flow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nprocomm introduces on KAL-logic and porting(2 – 4 h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ystem vendor prepares KAL-logic and registers with OS. Inprocomm reviews wlan_kal.h in the mean time.(1 we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ystem vendor does WPA Porting(1 – 2 we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nprocomm and System vendor work on tuning performance and testing.(vari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FB46-FDD1-4939-95FC-24C5948186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KAL: Kernel Abstract Lay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yer between Operating System and IPN2220.o driver object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odifying this kernel abstract layer, it is easy to port IPN2220 AP driver into a new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F878-6D13-40AC-9BCD-E6BB900266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828800" y="990720"/>
            <a:ext cx="0" cy="556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990720"/>
            <a:ext cx="0" cy="556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91440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44960" y="3049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N2220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89280" y="3049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L-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91720" y="30492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ded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371600"/>
            <a:ext cx="2666880" cy="152280"/>
          </a:xfrm>
          <a:prstGeom prst="leftArrow">
            <a:avLst>
              <a:gd name="adj1" fmla="val 50000"/>
              <a:gd name="adj2" fmla="val 43782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gister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94960" y="1600200"/>
            <a:ext cx="2667240" cy="152280"/>
          </a:xfrm>
          <a:prstGeom prst="leftArrow">
            <a:avLst>
              <a:gd name="adj1" fmla="val 50000"/>
              <a:gd name="adj2" fmla="val 43788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Call i2220ap_priv_cre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494960" y="1905120"/>
            <a:ext cx="2667240" cy="152280"/>
          </a:xfrm>
          <a:prstGeom prst="leftArrow">
            <a:avLst>
              <a:gd name="adj1" fmla="val 50000"/>
              <a:gd name="adj2" fmla="val 43788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Call i2220ap_pci_pro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2133720"/>
            <a:ext cx="2666880" cy="152280"/>
          </a:xfrm>
          <a:prstGeom prst="leftArrow">
            <a:avLst>
              <a:gd name="adj1" fmla="val 50000"/>
              <a:gd name="adj2" fmla="val 43782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gister I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494960" y="3200400"/>
            <a:ext cx="2667240" cy="152280"/>
          </a:xfrm>
          <a:prstGeom prst="leftArrow">
            <a:avLst>
              <a:gd name="adj1" fmla="val 50000"/>
              <a:gd name="adj2" fmla="val 43788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l i2220hw_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828800" y="2971800"/>
            <a:ext cx="2666880" cy="152280"/>
          </a:xfrm>
          <a:prstGeom prst="leftArrow">
            <a:avLst>
              <a:gd name="adj1" fmla="val 50000"/>
              <a:gd name="adj2" fmla="val 43782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W 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494960" y="3581280"/>
            <a:ext cx="2667240" cy="152640"/>
          </a:xfrm>
          <a:prstGeom prst="leftArrow">
            <a:avLst>
              <a:gd name="adj1" fmla="val 50000"/>
              <a:gd name="adj2" fmla="val 436851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Call do_isr_task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3962520"/>
            <a:ext cx="2667240" cy="152280"/>
          </a:xfrm>
          <a:prstGeom prst="leftArrow">
            <a:avLst>
              <a:gd name="adj1" fmla="val 50000"/>
              <a:gd name="adj2" fmla="val 43788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kal_netif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828800" y="5257800"/>
            <a:ext cx="2666880" cy="152280"/>
          </a:xfrm>
          <a:prstGeom prst="leftArrow">
            <a:avLst>
              <a:gd name="adj1" fmla="val 50000"/>
              <a:gd name="adj2" fmla="val 43782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mit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494960" y="5638680"/>
            <a:ext cx="2667240" cy="152640"/>
          </a:xfrm>
          <a:prstGeom prst="leftArrow">
            <a:avLst>
              <a:gd name="adj1" fmla="val 50000"/>
              <a:gd name="adj2" fmla="val 436851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I2220ap_hard_x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4267080"/>
            <a:ext cx="2667240" cy="152640"/>
          </a:xfrm>
          <a:prstGeom prst="leftArrow">
            <a:avLst>
              <a:gd name="adj1" fmla="val 50000"/>
              <a:gd name="adj2" fmla="val 436851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kal_free_s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4495680"/>
            <a:ext cx="2667240" cy="152640"/>
          </a:xfrm>
          <a:prstGeom prst="leftArrow">
            <a:avLst>
              <a:gd name="adj1" fmla="val 50000"/>
              <a:gd name="adj2" fmla="val 436851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kal_alloc_s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362320"/>
            <a:ext cx="128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N2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5943600"/>
            <a:ext cx="2667240" cy="152280"/>
          </a:xfrm>
          <a:prstGeom prst="leftArrow">
            <a:avLst>
              <a:gd name="adj1" fmla="val 50000"/>
              <a:gd name="adj2" fmla="val 43788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kal_free_s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83C3-9F0F-442B-ABE8-9B4789EB47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KAL Logic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acheable memory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_malloc_sz(), kal_free(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Non-cacheable and DMA-accessible memory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_pci_alloc_sz, kal_pci_free_s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Net packet allocation and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_alloc_skb,kal_free_s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Mapping virtual address to bus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_pci_map_single, kal_pci_unmap_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CI memory register read/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_pci_readl, kal_pci_wr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266-0736-4E7A-AEC1-6B766D6ECA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ata path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cket Trans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OS calls KAL’s TX call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 prepares network packet compliant with Inprocomm’s network packe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 calls i2220ap_hard_xm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cket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OS calls KAL’s ISR, then KAL schedules to call do_isr_taskle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o_isr_tasklet() calls kal_netif_rx(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 prepares net packet compliant with OS and indicate it up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8456-6AEE-43FA-9407-84C03346AA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3300"/>
                </a:solidFill>
                <a:latin typeface="Arial Black"/>
              </a:rPr>
              <a:t>Inprocomm’s Net Packet Model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content must be virtually and physically continuous. Its content should be non-cache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layer send net packet in Ethernet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N2220 indicates received wireless packet in Ethernet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90720" y="4343400"/>
          <a:ext cx="6095880" cy="5796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762120"/>
                <a:gridCol w="7617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. 6 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c. 6 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tc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lo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3D22-BA7C-4FA3-9696-8A33F52287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3300"/>
                </a:solidFill>
                <a:latin typeface="Arial Black"/>
              </a:rPr>
              <a:t>Inprocomm’s Net Packet Model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et packet should be 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. to return its current content starting address via kal_skb_data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. to return its current content length via kal_skb_le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3. to support kal_skb_pull to trim packet beginning; kal_skb_push to make room in the beginning; kal_skb_put to set packet’s content 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0FDD-84DD-4E06-93C8-3364DD0E6E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2:46:13Z</dcterms:created>
  <dc:creator>chyeh</dc:creator>
  <dc:description/>
  <dc:language>en-US</dc:language>
  <cp:lastModifiedBy>chyeh</cp:lastModifiedBy>
  <dcterms:modified xsi:type="dcterms:W3CDTF">2004-07-14T08:13:16Z</dcterms:modified>
  <cp:revision>26</cp:revision>
  <dc:subject/>
  <dc:title>Porting IPN2220AP on Embedded System</dc:title>
</cp:coreProperties>
</file>