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B6E-3E0E-4561-B8FF-870BCB01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45E-267E-45CF-80D2-AB838678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8DB-6693-4532-8783-6055F17E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464-FF88-4ED0-B9AA-7111314F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CB3C-5936-49D2-AD5C-F5728059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DB4E-E072-4307-B567-89961157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AFA1-0420-4D70-9EED-DBA0FBA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2B46-E14A-4461-BE4D-F6F98F9C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3D00-9B06-47D6-BBAC-F92335CF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D12F-9B20-4D61-991F-200F6204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039E-4CDF-4ED6-B430-95B3680A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CA5-0F99-43F0-9F02-AA27D979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2162-FAFD-4D27-B4DC-D53D320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3D7-DCAF-48B6-B383-484E7974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B54F-EEDF-4962-996F-24276537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F747-925C-4C10-A553-33959506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57CD-8805-4DF0-8F26-C43CD496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197-776F-4427-9BEC-FD72248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3E8-9D4B-4BFB-8E7D-344CF564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E99-AEB1-4041-903F-2E874818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216-92B2-4312-8594-8CF4175B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74B-2EB5-4D0D-8CC0-4C807BF9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50B-38A7-4C19-9658-4376401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749-B2C8-4C4E-8295-58614F99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04B7-879D-426E-A1D0-C76F3D809F9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1F78-E33E-47BD-919C-E32B0E930F2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IPN2220AP on Embedded Syste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W Engineer:Yeh, Chih Ha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mbedded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procomm, Inc, 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P operating mo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(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handles station-to-station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 with no relay between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stops forwarding packet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indicates all station’s data frame upward and does not forward packets between WLAN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DCE-709D-4C50-A0BE-1283C9B751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P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N2220 Drivers pro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key management and (de)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IP MIC calculation and failure no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port on/off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 Capability announcement in be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Frame exchange(certification and 4-way handsh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-PSK pass phrase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WPA capability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99F-5042-495A-B839-6EF45EFAC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/O Control on IPN2220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ll these function can be commanded through param_xx_xx and cmd_xx_xx functions listed in wlan_lib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clu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asic AP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Key and WPA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tatistics and network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BBE-2D89-49A2-A8C4-A787665519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accumulates knowledge on porting IPN2220 driver to different OS and network protocol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provides a clear-cut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can help System Vendor speed up porting IPN2220 d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EB5-CB78-40FE-AEE2-7FD55E96C2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17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, System Vendor’s Porting Effor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IPN2220.o, which contains object code compiled from OS-independent sourc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nsultation on porting, performance tu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egister ISR, network interface with respectiv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alling API provided by IPN2220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K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802.1X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1A6-15A8-4EAE-844C-F5665BB8EA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Work Flow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introduces on KAL-logic and porting(2 – 4 h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prepares KAL-logic and registers with OS. Inprocomm reviews wlan_kal.h in the mean time.(1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does WPA Porting(1 – 2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and System vendor work on tuning performance and testing.(vari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49B-14F1-404F-84D3-59BF29E7BE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: Kernel Abstract Lay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yer between Operating System and IPN2220.o driver object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odifying this kernel abstract layer, it is easy to port IPN2220 AP driver into a new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A7E-16A1-4D75-9C67-F260CE8447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9144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4960" y="304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304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L-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1720" y="3049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3716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94960" y="16002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riv_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4960" y="19051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ci_pr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13372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494960" y="32004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i2220hw_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828800" y="2971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W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94960" y="35812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do_isr_task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9625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netif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828800" y="5257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mit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494960" y="5638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I2220ap_hard_x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2670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495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alloc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36232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59436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AEF-E1E8-4B1E-9798-E06437DB59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 Logic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achea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malloc_sz(), kal_free(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on-cacheable and DMA-accessi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alloc_sz, kal_pci_free_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et packet allocation and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alloc_skb,kal_free_s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pping virtual address to bu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map_single, kal_pci_unmap_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CI memory register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readl, kal_pci_wr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901-1965-45BB-9DE9-3C32F5D5C8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ta pa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Trans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TX call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work packet compliant with Inprocomm’s network packe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calls i2220ap_hard_xm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ISR, then KAL schedules to call do_isr_taskle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o_isr_tasklet() calls kal_netif_rx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 packet compliant with OS and indicate it up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AAA-640B-4E7F-9616-1AB0B1ECE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content must be virtually and physically continuous. Its content should be non-cach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ayer send net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N2220 indicates received wireless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4343400"/>
          <a:ext cx="6095880" cy="579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762120"/>
                <a:gridCol w="761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tc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lo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E73-9775-4369-8A78-8677935C7C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t packet should b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 to return its current content starting address via kal_skb_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 to return its current content length via kal_skb_le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. to support kal_skb_pull to trim packet beginning; kal_skb_push to make room in the beginning; kal_skb_put to set packet’s content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794-3013-4066-B73E-5DB2F568F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2:46:13Z</dcterms:created>
  <dc:creator>chyeh</dc:creator>
  <dc:description/>
  <dc:language>en-US</dc:language>
  <cp:lastModifiedBy>chyeh</cp:lastModifiedBy>
  <dcterms:modified xsi:type="dcterms:W3CDTF">2004-07-14T08:13:16Z</dcterms:modified>
  <cp:revision>26</cp:revision>
  <dc:subject/>
  <dc:title>Porting IPN2220AP on Embedded System</dc:title>
</cp:coreProperties>
</file>