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9636-A8AA-49B7-A158-5892F1958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774B-1FB3-450B-839F-3BCA200BC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1F06-26AF-4BD5-B040-8C8717281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0BF7-1496-4762-B610-39FA19CC5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22688-F7A2-4F99-88C7-9F3E237D3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174FB-EC7E-4BA9-8E88-BBD1CEABF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C696D-6950-4DBC-A696-B729540EE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15046-8CDC-405B-BB9B-053ACA641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79A39-AFF0-4CB7-9EFA-2DF62765B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FE083-2BFB-4AF7-8780-4EE7BD646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6A1A8-5499-413E-B438-4C3A6FD09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23D4-266C-4BC5-B419-FB5993ED0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AB120-2EAF-42C8-B95D-F339517CE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04048-848B-4DA0-BEA2-F7B30E61E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79A59-30BC-4592-966B-BDCAFADCD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E6701-33BC-4CBE-884A-3C1A57642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17D0B-2893-439B-839F-1E116071E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1B93-87A1-4D3B-9A1D-DCA1F0715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10B9-BF8A-4ADA-BFF8-D4A5D6CD8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05F7-A8CF-4937-9310-C9C2541D8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877C-467A-4409-9469-DFF3F5582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C56D-AEA5-48A6-B3BB-BBE858945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5572-7E95-4E71-B376-8E1CE7E5D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39F8-2EDF-4F5A-BCC0-5DFD6AE13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mboo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068BB-C165-492F-A92F-A10ACC92FF8D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bamboo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B0286-82A6-4540-97BB-1E5148F9C99E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88520"/>
            <a:ext cx="624816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Porting IPN2220AP on Embedded System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SW Engineer:Yeh, Chih Ha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Embedded Syst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Inprocomm, Inc, Taiw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AP operating mode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itch mode(defaul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N2220 driver handles station-to-station traf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itch mode with no relay between s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N2220 driver stops forwarding packet between s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pi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N2220 driver indicates all station’s data frame upward and does not forward packets between WLAN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2EA9-A351-48DD-91B1-F9B033E63D9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WPA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N2220 Drivers prov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ware key management and (de)encry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KIP MIC calculation and failure not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2.1X port on/off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PA Capability announcement in bea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vendor hand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2.1X Frame exchange(certification and 4-way handshak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PA-PSK pass phrase calc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on WPA capability par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er mea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4054-033F-4209-B73D-4112B779562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I/O Control on IPN2220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All these function can be commanded through param_xx_xx and cmd_xx_xx functions listed in wlan_lib.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Inclu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Basic AP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W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Key and WPA mech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Statistics and network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098C-99E5-410D-B633-B30E7595900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onclusion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Inprocomm accumulates knowledge on porting IPN2220 driver to different OS and network protocol st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Inprocomm provides a clear-cut interf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Inprocomm can help System Vendor speed up porting IPN2220 dri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D854-8976-4CAB-A21E-E28EA90C5F3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3175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3300"/>
                </a:solidFill>
                <a:latin typeface="Arial Black"/>
              </a:rPr>
              <a:t>Inprocomm, System Vendor’s Porting Effort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Inprocom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provides IPN2220.o, which contains object code compiled from OS-independent source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Consultation on porting, performance tu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System Ven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Register ISR, network interface with respective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Calling API provided by IPN2220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Provides KAL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Provides 802.1X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31DD-9212-42B5-9795-B3704CFF020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Porting Work Flow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Inprocomm introduces on KAL-logic and porting(2 – 4 hr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System vendor prepares KAL-logic and registers with OS. Inprocomm reviews wlan_kal.h in the mean time.(1 wee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System vendor does WPA Porting(1 – 2 wee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Inprocomm and System vendor work on tuning performance and testing.(variab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3820-7D36-4AE2-8F27-922222F7B44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KAL: Kernel Abstract Layer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ayer between Operating System and IPN2220.o driver object co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modifying this kernel abstract layer, it is easy to port IPN2220 AP driver into a new plat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CE52-8D6D-4B45-8880-60FED4AA14F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828800" y="990720"/>
            <a:ext cx="0" cy="556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990720"/>
            <a:ext cx="0" cy="556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162920" y="914400"/>
            <a:ext cx="0" cy="556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844960" y="304920"/>
            <a:ext cx="21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N2220 D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89280" y="30492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L-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91720" y="304920"/>
            <a:ext cx="195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bedded 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371600"/>
            <a:ext cx="2666880" cy="152280"/>
          </a:xfrm>
          <a:prstGeom prst="leftArrow">
            <a:avLst>
              <a:gd name="adj1" fmla="val 50000"/>
              <a:gd name="adj2" fmla="val 437825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gister 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4494960" y="1600200"/>
            <a:ext cx="2667240" cy="152280"/>
          </a:xfrm>
          <a:prstGeom prst="leftArrow">
            <a:avLst>
              <a:gd name="adj1" fmla="val 50000"/>
              <a:gd name="adj2" fmla="val 437884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imes New Roman"/>
              </a:rPr>
              <a:t>Call i2220ap_priv_cre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4494960" y="1905120"/>
            <a:ext cx="2667240" cy="152280"/>
          </a:xfrm>
          <a:prstGeom prst="leftArrow">
            <a:avLst>
              <a:gd name="adj1" fmla="val 50000"/>
              <a:gd name="adj2" fmla="val 437884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imes New Roman"/>
              </a:rPr>
              <a:t>Call i2220ap_pci_pro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28800" y="2133720"/>
            <a:ext cx="2666880" cy="152280"/>
          </a:xfrm>
          <a:prstGeom prst="leftArrow">
            <a:avLst>
              <a:gd name="adj1" fmla="val 50000"/>
              <a:gd name="adj2" fmla="val 437825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gister IS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4494960" y="3200400"/>
            <a:ext cx="2667240" cy="152280"/>
          </a:xfrm>
          <a:prstGeom prst="leftArrow">
            <a:avLst>
              <a:gd name="adj1" fmla="val 50000"/>
              <a:gd name="adj2" fmla="val 437884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ll i2220hw_interru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828800" y="2971800"/>
            <a:ext cx="2666880" cy="152280"/>
          </a:xfrm>
          <a:prstGeom prst="leftArrow">
            <a:avLst>
              <a:gd name="adj1" fmla="val 50000"/>
              <a:gd name="adj2" fmla="val 437825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W Interru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4494960" y="3581280"/>
            <a:ext cx="2667240" cy="152640"/>
          </a:xfrm>
          <a:prstGeom prst="leftArrow">
            <a:avLst>
              <a:gd name="adj1" fmla="val 50000"/>
              <a:gd name="adj2" fmla="val 436851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imes New Roman"/>
              </a:rPr>
              <a:t>Call do_isr_task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95680" y="3962520"/>
            <a:ext cx="2667240" cy="152280"/>
          </a:xfrm>
          <a:prstGeom prst="leftArrow">
            <a:avLst>
              <a:gd name="adj1" fmla="val 50000"/>
              <a:gd name="adj2" fmla="val 437884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imes New Roman"/>
              </a:rPr>
              <a:t>kal_netif_r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1828800" y="5257800"/>
            <a:ext cx="2666880" cy="152280"/>
          </a:xfrm>
          <a:prstGeom prst="leftArrow">
            <a:avLst>
              <a:gd name="adj1" fmla="val 50000"/>
              <a:gd name="adj2" fmla="val 437825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nsmit pac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4494960" y="5638680"/>
            <a:ext cx="2667240" cy="152640"/>
          </a:xfrm>
          <a:prstGeom prst="leftArrow">
            <a:avLst>
              <a:gd name="adj1" fmla="val 50000"/>
              <a:gd name="adj2" fmla="val 436851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imes New Roman"/>
              </a:rPr>
              <a:t>I2220ap_hard_x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95680" y="4267080"/>
            <a:ext cx="2667240" cy="152640"/>
          </a:xfrm>
          <a:prstGeom prst="leftArrow">
            <a:avLst>
              <a:gd name="adj1" fmla="val 50000"/>
              <a:gd name="adj2" fmla="val 436851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imes New Roman"/>
              </a:rPr>
              <a:t>kal_free_sk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95680" y="4495680"/>
            <a:ext cx="2667240" cy="152640"/>
          </a:xfrm>
          <a:prstGeom prst="leftArrow">
            <a:avLst>
              <a:gd name="adj1" fmla="val 50000"/>
              <a:gd name="adj2" fmla="val 436851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imes New Roman"/>
              </a:rPr>
              <a:t>kal_alloc_sk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2362320"/>
            <a:ext cx="128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N22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95680" y="5943600"/>
            <a:ext cx="2667240" cy="152280"/>
          </a:xfrm>
          <a:prstGeom prst="leftArrow">
            <a:avLst>
              <a:gd name="adj1" fmla="val 50000"/>
              <a:gd name="adj2" fmla="val 437884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imes New Roman"/>
              </a:rPr>
              <a:t>kal_free_sk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E5AD-D0BC-4E98-BF78-543000B8209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KAL Logic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Cacheable memory al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kal_malloc_sz(), kal_free(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Non-cacheable and DMA-accessible memory al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kal_pci_alloc_sz, kal_pci_free_s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Net packet allocation and f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kal_alloc_skb,kal_free_sk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Mapping virtual address to bus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kal_pci_map_single, kal_pci_unmap_si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PCI memory register read/wr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kal_pci_readl, kal_pci_wri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4801-C17B-4A27-9BE8-C2A3F7182FC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Data path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Packet Transmi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OS calls KAL’s TX callb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KAL prepares network packet compliant with Inprocomm’s network packe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KAL calls i2220ap_hard_xmit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Packet Re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OS calls KAL’s ISR, then KAL schedules to call do_isr_tasklet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do_isr_tasklet() calls kal_netif_rx(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KAL prepares net packet compliant with OS and indicate it upw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E560-3A0F-4B33-AE5D-D57C9B41FD0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3300"/>
                </a:solidFill>
                <a:latin typeface="Arial Black"/>
              </a:rPr>
              <a:t>Inprocomm’s Net Packet Model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cket content must be virtually and physically continuous. Its content should be non-cache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per layer send net packet in Ethernet form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PN2220 indicates received wireless packet in Ethernet form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990720" y="4343400"/>
          <a:ext cx="6095880" cy="57960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762120"/>
                <a:gridCol w="76176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t. 6 by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rc. 6 by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tcl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ylo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E06A-997D-4D4A-B533-CE725130F9D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3300"/>
                </a:solidFill>
                <a:latin typeface="Arial Black"/>
              </a:rPr>
              <a:t>Inprocomm’s Net Packet Model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Net packet should be a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1. to return its current content starting address via kal_skb_data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2. to return its current content length via kal_skb_len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3. to support kal_skb_pull to trim packet beginning; kal_skb_push to make room in the beginning; kal_skb_put to set packet’s content leng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8278-012C-492E-B0CD-38A8BC8C846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8T02:46:13Z</dcterms:created>
  <dc:creator>chyeh</dc:creator>
  <dc:description/>
  <dc:language>en-US</dc:language>
  <cp:lastModifiedBy>chyeh</cp:lastModifiedBy>
  <dcterms:modified xsi:type="dcterms:W3CDTF">2004-07-14T08:13:16Z</dcterms:modified>
  <cp:revision>26</cp:revision>
  <dc:subject/>
  <dc:title>Porting IPN2220AP on Embedded System</dc:title>
</cp:coreProperties>
</file>