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4B2-E3C0-48E3-B7DE-9A5878E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DBD-8CA1-4D84-AA66-2A07682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44B-E0B9-4213-89F3-41C689CA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3DE-BE04-41B4-939E-78746995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29D-267E-4E9C-9F37-6E7D6E5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A58F-2EDD-47B1-A28B-27D0FFC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9EC-893E-4721-8F85-4E3313D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F263-D4E8-43EA-A9E6-763958C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B180-A04E-4510-AF3A-10697D7B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3851-61E5-4CEB-B00D-E9DC96FA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1C01-D63B-4B6B-B053-D9FA0D0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665-3491-457D-9AC6-BC63379F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C28-B78B-4FA6-BD52-A212615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48B-770B-4E3D-BB93-E499131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0491-56FD-438B-8BEE-FAE76EA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DCB2-B3DD-414B-A042-0D454648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827-BB07-46C4-980A-26CD30BD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3B0-8D8B-439D-AA28-012E9A24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8A3-D50E-4E1D-A1D6-EBA1B3A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45A-961D-4A3A-BCF5-2F70B06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D81-6D68-48AD-B13F-FC69D948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835-C7E4-4D72-A6AD-AECA1BC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2A1-87A0-43D2-8C68-F225386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9EF-F381-4CD4-A47B-F4DB5B1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674-5991-4D60-A4C9-D5846CE0628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7C2-FA7D-4AF6-A068-1ACEC694BA2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IPN2220AP on Embedded Syst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W Engineer:Yeh, Chih Ha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mbedde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procomm, Inc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P operating mo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handles station-to-station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 with no relay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stops forwarding packet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indicates all station’s data frame upward and does not forward packets between WLA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74F-52C5-4B98-8D87-9ACCF2E73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P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N2220 Drivers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key management and (de)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IP MIC calculation and failure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port on/of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Capability announcement in 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Frame exchange(certification and 4-way handsh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-PSK pass phras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WPA capability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3FB-44E0-4BC6-90EF-EA4B8CB2B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/O Control on IPN222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ll these function can be commanded through param_xx_xx and cmd_xx_xx functions listed in wlan_lib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lu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AP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and WPA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atistics and networ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C06-95B0-46B6-B53E-5E687894B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accumulates knowledge on porting IPN2220 driver to different OS and network protocol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provides a clear-cut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can help System Vendor speed up porting IPN2220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CD1-261E-488E-9D4B-E661ED1BF0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1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, System Vendor’s Porting Effor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IPN2220.o, which contains object code compiled from OS-independent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nsultation on porting, performance tu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gister ISR, network interface with respectiv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lling API provided by IPN2220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K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802.1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2DF-C4C0-4AA1-979E-82CB2257D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Work Flow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introduces on KAL-logic and porting(2 – 4 h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prepares KAL-logic and registers with OS. Inprocomm reviews wlan_kal.h in the mean time.(1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does WPA Porting(1 – 2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and System vendor work on tuning performance and testing.(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438-352E-4B06-9022-2F6538E35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: Kernel Abstract Lay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yer between Operating System and IPN2220.o driver obje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odifying this kernel abstract layer, it is easy to port IPN2220 AP driver into a new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8D3-7ABC-45E0-954F-C5E0A8CE97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9144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4960" y="304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304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-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3049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3716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94960" y="16002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riv_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4960" y="19051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ci_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13372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94960" y="32004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i2220hw_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2971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94960" y="35812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do_isr_tas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9625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netif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28800" y="5257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94960" y="5638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I2220ap_hard_x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2670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alloc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6232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9436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C17-8454-4D81-AC9B-9A4DE7BCC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 Logic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chea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malloc_sz(), kal_free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on-cacheable and DMA-accessi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alloc_sz, kal_pci_free_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t packet allocation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alloc_skb,kal_free_s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pping virtual address to bu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map_single, kal_pci_unmap_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I memory 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readl, kal_pci_w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A5E-192E-4A9E-9B8A-4DD691537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pa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TX call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work packet compliant with Inprocomm’s network packe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calls i2220ap_hard_xm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ISR, then KAL schedules to call do_isr_taskle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_isr_tasklet() calls kal_netif_rx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 packet compliant with OS and indicate it up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E92-62E7-489C-A172-61CDBE4F5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tent must be virtually and physically continuous. Its content should be non-cach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ayer send net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N2220 indicates received wireless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4343400"/>
          <a:ext cx="6095880" cy="579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762120"/>
                <a:gridCol w="761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tc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762-6599-4BC2-8878-C877FCD0F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t packet should b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 to return its current content starting address via kal_skb_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 to return its current content length via kal_skb_l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 to support kal_skb_pull to trim packet beginning; kal_skb_push to make room in the beginning; kal_skb_put to set packet’s content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F41-7151-4E47-8A97-E85A9069F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2:46:13Z</dcterms:created>
  <dc:creator>chyeh</dc:creator>
  <dc:description/>
  <dc:language>en-US</dc:language>
  <cp:lastModifiedBy>chyeh</cp:lastModifiedBy>
  <dcterms:modified xsi:type="dcterms:W3CDTF">2004-07-14T08:13:16Z</dcterms:modified>
  <cp:revision>26</cp:revision>
  <dc:subject/>
  <dc:title>Porting IPN2220AP on Embedded System</dc:title>
</cp:coreProperties>
</file>