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7DD-EA23-460C-95B9-78E999A6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729-2A3C-4524-864F-2D3CD8E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90F-0CAD-4FDC-8186-AAAFFE04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33C-BED8-4909-80F4-2BDA4EEC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688-587C-4006-A272-8E8A0284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7C9-91C5-4860-8A12-886D8E3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84A6-76D1-4C74-918E-8A139BD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35F5-1847-4E2D-8717-C5875B9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CEDD-BA7B-4585-A6B4-574C731E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00C-E924-48CD-A708-C384057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567-B7E1-4588-AE52-20BA60C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FC4-8490-4D64-84F5-528C37B5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7D2-D737-4128-B42F-BF21AEB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BFD9-2771-4276-8176-2CDF915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6A8-E8F6-4215-A39D-47B8A90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6CF-5C1F-41E0-B242-33901D44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6FF-F2CB-4A91-AEAE-F768FB7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56A-2750-4B9F-A4B2-9BE9CA2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844-D5C1-40C5-80B8-9A057921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405-95B4-4225-A0E9-140BBEC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5D4-CE9C-4B0D-B046-E970DDC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99-D984-4FD3-9238-6ADA1DA5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F3E-FD1C-4324-8BD9-77DEB93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EE2-752F-48C4-B60B-E90B736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601-E358-40CC-BC7C-891CCE61E0D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1435-3F96-4183-81B3-1020808434C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IPN2220AP on Embedded Syst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W Engineer:Yeh, Chih Ha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mbedde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procomm, Inc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P operating mo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handles station-to-station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 with no relay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stops forwarding packet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indicates all station’s data frame upward and does not forward packets between WLA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E91-767A-48E0-BD41-AB3873A8D4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P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N2220 Drivers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key management and (de)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IP MIC calculation and failure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port on/of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Capability announcement in 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Frame exchange(certification and 4-way handsh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-PSK pass phras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WPA capability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C9B-3224-4B75-8E8A-43544834B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/O Control on IPN222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ll these function can be commanded through param_xx_xx and cmd_xx_xx functions listed in wlan_lib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lu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AP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and WPA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atistics and networ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359-48EB-4D0F-A1E8-B2ABA246E8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accumulates knowledge on porting IPN2220 driver to different OS and network protocol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provides a clear-cut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can help System Vendor speed up porting IPN2220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1F5-F1ED-45CF-AEEA-A953BB2AF8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1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, System Vendor’s Porting Effor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IPN2220.o, which contains object code compiled from OS-independent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nsultation on porting, performance tu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gister ISR, network interface with respectiv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lling API provided by IPN2220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K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802.1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F3D-B83B-4AFD-9762-BCF4E7170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Work Flow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introduces on KAL-logic and porting(2 – 4 h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prepares KAL-logic and registers with OS. Inprocomm reviews wlan_kal.h in the mean time.(1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does WPA Porting(1 – 2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and System vendor work on tuning performance and testing.(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D3A-FD18-473B-98C0-C880DD509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: Kernel Abstract Lay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yer between Operating System and IPN2220.o driver obje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odifying this kernel abstract layer, it is easy to port IPN2220 AP driver into a new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1D0-9D73-4DE3-812C-7C9735ACE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9144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4960" y="304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304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-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3049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3716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94960" y="16002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riv_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4960" y="19051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ci_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13372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94960" y="32004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i2220hw_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2971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94960" y="35812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do_isr_tas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9625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netif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28800" y="5257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94960" y="5638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I2220ap_hard_x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2670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alloc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6232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9436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8B4-8C52-4C45-8FF3-054E52D65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 Logic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chea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malloc_sz(), kal_free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on-cacheable and DMA-accessi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alloc_sz, kal_pci_free_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t packet allocation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alloc_skb,kal_free_s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pping virtual address to bu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map_single, kal_pci_unmap_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I memory 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readl, kal_pci_w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0B4-48A4-42A9-AA43-6BAB43571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pa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TX call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work packet compliant with Inprocomm’s network packe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calls i2220ap_hard_xm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ISR, then KAL schedules to call do_isr_taskle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_isr_tasklet() calls kal_netif_rx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 packet compliant with OS and indicate it up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0C9-AB66-4BA2-AFE5-BD53991897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tent must be virtually and physically continuous. Its content should be non-cach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ayer send net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N2220 indicates received wireless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4343400"/>
          <a:ext cx="6095880" cy="579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762120"/>
                <a:gridCol w="761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tc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6F1-BA6D-4EF4-BD58-23CCBF278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t packet should b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 to return its current content starting address via kal_skb_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 to return its current content length via kal_skb_l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 to support kal_skb_pull to trim packet beginning; kal_skb_push to make room in the beginning; kal_skb_put to set packet’s content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427-E4D5-4D58-B088-149A7BF3B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2:46:13Z</dcterms:created>
  <dc:creator>chyeh</dc:creator>
  <dc:description/>
  <dc:language>en-US</dc:language>
  <cp:lastModifiedBy>chyeh</cp:lastModifiedBy>
  <dcterms:modified xsi:type="dcterms:W3CDTF">2004-07-14T08:13:16Z</dcterms:modified>
  <cp:revision>26</cp:revision>
  <dc:subject/>
  <dc:title>Porting IPN2220AP on Embedded System</dc:title>
</cp:coreProperties>
</file>